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8037-5D53-454D-982F-A1444316F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4F9B-9D28-47F0-BD1B-2AA46EDD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22A5-8882-4612-8B64-A56ED6AE0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E4B3-6683-4AD5-9591-39BB650FF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0170-3432-4528-9E30-4DF6269E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798E-BEF0-44B5-B719-DCF9945E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56CE-772D-4A13-ADF7-EBCD45CD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B3CA-3439-450A-8940-FDF0A77F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206D-A84E-4EA5-9015-6D77F7D9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55E5-59E6-4D69-986C-E631182B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0731-1273-42BD-86A4-7A71F62E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6BCD-D129-4F38-BE58-B40ADD93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DC8D-13BB-43FC-8636-5E588BBD7EA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04920" y="896760"/>
            <a:ext cx="8534160" cy="49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Comic Sans MS"/>
              </a:rPr>
              <a:t>The Properties of Waves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efraction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uperposition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Diffraction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3"/>
          <p:cNvSpPr/>
          <p:nvPr/>
        </p:nvSpPr>
        <p:spPr>
          <a:xfrm>
            <a:off x="685800" y="67644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ffffff"/>
                </a:solidFill>
                <a:latin typeface="Comic Sans MS"/>
              </a:rPr>
              <a:t>Can you still hear me?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318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2133720" y="4132440"/>
            <a:ext cx="4343400" cy="2649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1752480" y="1889280"/>
            <a:ext cx="5562720" cy="26064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457200" y="3808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arrier – the longer the wavelength, the more the diffraction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914400" y="477720"/>
            <a:ext cx="7162920" cy="57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438280" y="3666960"/>
            <a:ext cx="4191120" cy="3191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2133720" y="0"/>
            <a:ext cx="46479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362320" y="4343400"/>
            <a:ext cx="3801960" cy="2438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4495680" y="1752480"/>
            <a:ext cx="3505320" cy="2756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3"/>
          <a:stretch/>
        </p:blipFill>
        <p:spPr>
          <a:xfrm>
            <a:off x="838080" y="2054160"/>
            <a:ext cx="3200400" cy="22892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304920" y="29376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ap – maximum diffraction occurs when the wavelength is equal to the size of the gap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220px-Wavelength=slitwidthspectrum.gif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304920" y="228600"/>
            <a:ext cx="8534160" cy="58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Diffraction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When waves pass around a barrier or through a gap, they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end behind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e barrier/gap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arrier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– the longer the wavelength, the more the diffraction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Gap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– maximum diffraction occurs when the wavelength is equal to the size of the gap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nistry of Education</cp:lastModifiedBy>
  <dcterms:modified xsi:type="dcterms:W3CDTF">2012-03-29T20:17:53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